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E49-E48A-4B64-83D2-080E26C3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385-7B94-4B19-87FC-98C11927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BB0-CA95-497C-B4D0-3A0C6EE5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DAD-4A30-4B19-ABD9-8D5B2BA3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9D3-18C9-4164-829D-43AA018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61C-A3B6-4F38-ABC2-B73AF622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32B-5B25-4A92-A3F3-5B0D90DE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985-FBA1-4739-B3A8-7ACACA82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46A-E33D-473B-BE8A-2AA2CBC4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E24-FFB9-40BF-BA8C-923647D7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276-E0CF-4292-83BD-58E0CAA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100-39DB-4972-A5CA-762FA72E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8468-23B2-45FD-970D-53BB73B05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mww.org/images_CDMWW/flag_Cameroon.gif&amp;imgrefurl=http://cdmww.org/Fact_cameroon.htm&amp;h=304&amp;w=455&amp;sz=3&amp;hl=en&amp;start=10&amp;usg=__ayIT1zQJa-tUMIKe1y0s-RtI46E=&amp;tbnid=WNtSzGJgFj1_SM:&amp;tbnh=86&amp;tbnw=128&amp;prev=/images%3Fq%3Dcameroo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amero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By: Zachary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05120"/>
            <a:ext cx="6782040" cy="455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6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</a:rPr>
              <a:t>Cameroon is bordered by Nigeria to the west; Chad to the northeast; The central African republic to the east; and equatorial Guiana, Gabon, and the rebublic of Congo to the sou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88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86800" y="-54565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oon is well known for its native styles of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other African countries, Cameroon enjoys political and social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lies firmly in the hands of the president, Paul Bi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2852_Biya-Paul.jpg"/>
          <p:cNvPicPr/>
          <p:nvPr/>
        </p:nvPicPr>
        <p:blipFill>
          <a:blip r:embed="rId2"/>
          <a:stretch/>
        </p:blipFill>
        <p:spPr>
          <a:xfrm>
            <a:off x="4648320" y="5181480"/>
            <a:ext cx="1038240" cy="152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ameroon music crop.jpg"/>
          <p:cNvPicPr/>
          <p:nvPr/>
        </p:nvPicPr>
        <p:blipFill>
          <a:blip r:embed="rId3"/>
          <a:stretch/>
        </p:blipFill>
        <p:spPr>
          <a:xfrm>
            <a:off x="7629480" y="1371600"/>
            <a:ext cx="151452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ameroon3.jpg"/>
          <p:cNvPicPr/>
          <p:nvPr/>
        </p:nvPicPr>
        <p:blipFill>
          <a:blip r:embed="rId4"/>
          <a:stretch/>
        </p:blipFill>
        <p:spPr>
          <a:xfrm>
            <a:off x="7620120" y="3809880"/>
            <a:ext cx="1523880" cy="1067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20694600">
            <a:off x="2743200" y="380880"/>
            <a:ext cx="3867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Lucida Sans Typewriter"/>
              </a:rPr>
              <a:t>Cameroon Fact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Lucida Sans Typewriter"/>
              <a:ea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On July 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, 1884 Cameroon became a German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In world war 1 the british invaded cameroon from nigeria in 19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French cameroons achieved independence as the republic of cameroon in 19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52480" y="-304920"/>
            <a:ext cx="53341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Rage Italic"/>
              </a:rPr>
              <a:t>Cameroon History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Rage Italic"/>
              <a:ea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5:30:29Z</dcterms:created>
  <dc:creator>LCS_user</dc:creator>
  <dc:description/>
  <dc:language>en-US</dc:language>
  <cp:lastModifiedBy>zacharyplace</cp:lastModifiedBy>
  <dcterms:modified xsi:type="dcterms:W3CDTF">2008-11-07T14:19:40Z</dcterms:modified>
  <cp:revision>5</cp:revision>
  <dc:subject/>
  <dc:title>Cameroon</dc:title>
</cp:coreProperties>
</file>